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CF8-A199-4252-B8A0-59D18F26B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263-56B0-4DC7-BAB7-2FC218AAD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C32-72D6-4E0F-885C-796F3B59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7E4-F3B9-45DE-8183-1A5DD38C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B3E-1076-49DC-AAB9-103663AF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DEB-37B5-40A4-A3DC-2D1A978D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9EB-5F0B-423D-A174-8759BB81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65C-2BEC-472E-A6F7-B417760F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788-93CD-4E3D-913B-A2B2622E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006-38D6-4E04-8D48-5642C316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3BD-A06C-406B-A396-0AD71E6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E94-7B4B-43C2-9276-DEA96A2F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F69-F0C9-4EDD-AD1F-BD93A67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1FF-356C-44BB-B705-7B6CBFE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0F8-E4A8-4FE4-BE86-577CCA8A7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C07-6517-447B-882A-F1B536087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08080" y="1433520"/>
          <a:ext cx="887400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33520"/>
                    <a:ext cx="8874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я 202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7C47-645E-474A-8B8C-F4D36E0F8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ма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1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1040" y="907920"/>
          <a:ext cx="8832960" cy="618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907920"/>
                    <a:ext cx="883296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1-04-28T04:46:54Z</dcterms:modified>
  <cp:revision>127</cp:revision>
  <dc:subject/>
  <dc:title>Презентация PowerPoint</dc:title>
</cp:coreProperties>
</file>